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7483C-743A-439C-9953-F157B8E6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24546-5EFA-4E42-9622-D3A4389A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3DFD9-F6E5-4BA5-8DB1-0C538455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C68E-47D1-4224-8BCD-E7A9B80A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033D-6ACE-44C5-ACB7-B7739011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9358-B15D-4481-9175-FC42D3D8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8FBF-40E5-4506-B851-4C11BDBF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BC32-9725-4FD9-9057-CE45F45B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42C6-6705-47D8-922A-23F31BA6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D211-19B7-4828-B964-E2A64007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B576-CCFD-4B81-915A-8874EA2A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E185D-AE6A-43C1-9029-6E5A5B61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45D6-13EF-4883-B6D6-CF6EF8DE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5C4E-5BB8-4275-A6CD-8A72E2EE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4481-C3F8-4766-B8E7-19B37710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9ECA-2A8C-4D6C-8CA2-8D269E68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BA64-AF0E-401E-954B-95C74CFE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81634-DC1D-458B-BD50-ACD15F57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7113E-9C15-4B74-A6FD-27D1C458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A6E9E-C236-4B8B-AD33-D5BD1840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17EAD-135A-47ED-9FDB-198D9135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71D68-E019-4B4E-8F35-585C125D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BE3A3-FD64-4788-A99C-A4FBF6AE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A09DE-6B93-4AD2-9A97-B4B20B04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29D8-118F-4E97-8B59-15730282F4A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6959-874F-4A35-8799-F20DA492A82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ities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The Centre of Civilization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itie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Have multiple functions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Most all have the following elements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BD – central business district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Older neighborhoods (that may be in transition, or </a:t>
            </a:r>
            <a:r>
              <a:rPr b="0" i="1" lang="en-US" sz="2800" spc="-1" strike="noStrike">
                <a:solidFill>
                  <a:srgbClr val="000000"/>
                </a:solidFill>
                <a:latin typeface="굴림"/>
              </a:rPr>
              <a:t>gentrification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ome sort of manufacturing area (heavy or ligh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uburban setting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Patterns of Urbanization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oncentric zone theory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03280" y="1506600"/>
            <a:ext cx="619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ector theory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1562040"/>
            <a:ext cx="597528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Multiple nuclei theory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03280" y="1643040"/>
            <a:ext cx="640872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Megalopolis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00440" y="2090880"/>
            <a:ext cx="354312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Nature &amp; Function of Cities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Four types of Citie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Commercial cit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Cosmic cit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Sacred cit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Colonial cit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1:03:20Z</dcterms:created>
  <dc:creator>user</dc:creator>
  <dc:description/>
  <dc:language>en-US</dc:language>
  <cp:lastModifiedBy>user</cp:lastModifiedBy>
  <dcterms:modified xsi:type="dcterms:W3CDTF">2009-08-24T11:30:20Z</dcterms:modified>
  <cp:revision>2</cp:revision>
  <dc:subject/>
  <dc:title>Cities</dc:title>
</cp:coreProperties>
</file>